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03F-B56C-44A4-9279-8E727ED5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870-4749-4569-BC7A-CBEBB54D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6AA-A35D-4222-B68E-9A425C5E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B3C-DE69-4910-91C4-30334F15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CDE1-82CE-4A17-878E-3A4AFD2B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A530-F34B-4916-87E7-1EF44C85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71A4-15ED-42C8-B07F-904DA0AA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AAA2-F310-480C-B84D-CBD4AB97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64DD-BA1A-462B-BA53-0C58047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DB80-E77C-4515-B277-1562C853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134F-CD9E-4F64-BF35-186EDBCD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341-7B20-4F5C-B840-89C889E5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AE35-A9BA-42EF-B18B-447B361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65DB-4624-49E6-86F6-8C6AC88E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6732-0048-493B-9EE1-45EAC0F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A224-74D6-42C3-9634-8698BCAB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3966-F481-4721-8513-C19E2613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723-872F-470B-9AF4-30A79A9C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C6E-6F31-4A2B-9BFC-CEC3B0A5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4A0-8CAC-489C-A980-E22D0D2D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BBB-9030-4EEA-98AE-B7CECC05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A61-207C-4E9B-AEEF-70C4F35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C56-4662-4428-948D-D280BA1A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7B2-F50A-45C3-86EA-0C84880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1701-F0AD-4B81-BE87-DE9B8BC809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3B92-27DC-47E8-9281-F746C75F88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редные привычки и и х предупрежд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3456000" cy="3860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916360" y="332424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ая малая капля алкоголя для беременной женщины может стать причиной патологий и уродств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2" descr="http://urodaizdrowie.pl/wp-content/uploads/2010/06/Preganant-woman-with-wine-001x.jpg"/>
          <p:cNvPicPr/>
          <p:nvPr/>
        </p:nvPicPr>
        <p:blipFill>
          <a:blip r:embed="rId1"/>
          <a:stretch/>
        </p:blipFill>
        <p:spPr>
          <a:xfrm>
            <a:off x="468360" y="1989000"/>
            <a:ext cx="7278480" cy="416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m4-tub-ru.yandex.net/i?id=607310248-25-72&amp;n=21"/>
          <p:cNvPicPr/>
          <p:nvPr/>
        </p:nvPicPr>
        <p:blipFill>
          <a:blip r:embed="rId2"/>
          <a:stretch/>
        </p:blipFill>
        <p:spPr>
          <a:xfrm>
            <a:off x="7086600" y="335268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рком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ркомания – болезненное непреодолимое пристрастие к наркотическим средствам, вызывающим нарушение психики, галлюцинации, бред, разрушение всех органов и систем человеческого организма, преждевременная смер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images (5)"/>
          <p:cNvPicPr/>
          <p:nvPr/>
        </p:nvPicPr>
        <p:blipFill>
          <a:blip r:embed="rId1"/>
          <a:stretch/>
        </p:blipFill>
        <p:spPr>
          <a:xfrm>
            <a:off x="5148360" y="4869000"/>
            <a:ext cx="331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Мотивы толкающие к наркотическому дурман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Любопытство и подраж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Желание повторить испытанные ощущения одурманивания приводят к рабской зависимости от наркотика. Постепенно все имевшиеся ранее у подростка интересы и увлечения пропадают. Появляются слабость, бессонница, потеря аппетита, исхуд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ркоти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3. &amp;Ncy;&amp;acy;&amp;rcy;&amp;kcy;&amp;ocy;&amp;tcy;&amp;icy;&amp;kcy;&amp;icy; &amp;yacy;&amp;vcy;&amp;lcy;&amp;yacy;&amp;yucy;&amp;tcy;&amp;scy;&amp;yacy; &amp;pcy;&amp;rcy;&amp;iecy;&amp;pcy;&amp;yacy;&amp;tcy;&amp;scy;&amp;tcy;&amp;vcy;&amp;icy;&amp;iecy;&amp;mcy; &amp;kcy; &amp;dcy;&amp;ucy;&amp;khcy;&amp;ocy;&amp;vcy;&amp;ncy;&amp;ocy;&amp;mcy;&amp;ucy; &amp;rcy;&amp;acy;&amp;zcy;&amp;vcy;&amp;icy;&amp;tcy;&amp;icy;&amp;yucy;."/>
          <p:cNvPicPr/>
          <p:nvPr/>
        </p:nvPicPr>
        <p:blipFill>
          <a:blip r:embed="rId1"/>
          <a:stretch/>
        </p:blipFill>
        <p:spPr>
          <a:xfrm>
            <a:off x="250920" y="1844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4. &amp;Ncy;&amp;acy;&amp;rcy;&amp;kcy;&amp;ocy;&amp;tcy;&amp;icy;&amp;kcy;&amp;icy; &amp;tcy;&amp;ocy;&amp;lcy;&amp;kcy;&amp;acy;&amp;yucy;&amp;tcy; &amp;lcy;&amp;yucy;&amp;dcy;&amp;iecy;&amp;jcy; &amp;ncy;&amp;acy; &amp;kcy;&amp;rcy;&amp;acy;&amp;zhcy;&amp;icy; &amp;icy; &amp;ncy;&amp;acy;&amp;scy;&amp;icy;&amp;lcy;&amp;icy;&amp;yacy;."/>
          <p:cNvPicPr/>
          <p:nvPr/>
        </p:nvPicPr>
        <p:blipFill>
          <a:blip r:embed="rId2"/>
          <a:stretch/>
        </p:blipFill>
        <p:spPr>
          <a:xfrm>
            <a:off x="2916360" y="1916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2. &amp;Ncy;&amp;acy;&amp;rcy;&amp;kcy;&amp;ocy;&amp;tcy;&amp;icy;&amp;kcy;&amp;icy; &amp;chcy;&amp;acy;&amp;scy;&amp;tcy;&amp;ocy; &amp;pcy;&amp;rcy;&amp;icy;&amp;vcy;&amp;ocy;&amp;dcy;&amp;yacy;&amp;tcy; &amp;kcy; &amp;ncy;&amp;iecy;&amp;scy;&amp;chcy;&amp;acy;&amp;scy;&amp;tcy;&amp;ncy;&amp;ycy;&amp;mcy; &amp;scy;&amp;lcy;&amp;ucy;&amp;chcy;&amp;acy;&amp;yacy;&amp;mcy;."/>
          <p:cNvPicPr/>
          <p:nvPr/>
        </p:nvPicPr>
        <p:blipFill>
          <a:blip r:embed="rId3"/>
          <a:stretch/>
        </p:blipFill>
        <p:spPr>
          <a:xfrm>
            <a:off x="6012000" y="15573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1. &amp;Ncy;&amp;acy;&amp;rcy;&amp;kcy;&amp;ocy;&amp;tcy;&amp;icy;&amp;kcy;&amp;icy; &amp;ncy;&amp;iecy; &amp;dcy;&amp;acy;&amp;yucy;&amp;tcy; &amp;chcy;&amp;iecy;&amp;lcy;&amp;ocy;&amp;vcy;&amp;iecy;&amp;kcy;&amp;ucy; &amp;mcy;&amp;ycy;&amp;scy;&amp;lcy;&amp;icy;&amp;tcy;&amp;softcy; &amp;scy;&amp;acy;&amp;mcy;&amp;ocy;&amp;scy;&amp;tcy;&amp;ocy;&amp;yacy;- &amp;tcy;&amp;iecy;&amp;lcy;&amp;softcy;&amp;ncy;&amp;ocy;."/>
          <p:cNvPicPr/>
          <p:nvPr/>
        </p:nvPicPr>
        <p:blipFill>
          <a:blip r:embed="rId4"/>
          <a:stretch/>
        </p:blipFill>
        <p:spPr>
          <a:xfrm>
            <a:off x="6012000" y="3933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6. &amp;Ncy;&amp;acy;&amp;rcy;&amp;kcy;&amp;ocy;&amp;tcy;&amp;icy;&amp;kcy;&amp;icy; &amp;yacy;&amp;vcy;&amp;lcy;&amp;yacy;&amp;yucy;&amp;tcy;&amp;scy;&amp;yacy; &amp;icy;&amp;scy;&amp;tcy;&amp;ocy;&amp;chcy;&amp;ncy;&amp;icy;&amp;kcy;&amp;ocy;&amp;mcy; &amp;mcy;&amp;ncy;&amp;ocy;&amp;gcy;&amp;icy;&amp;khcy; &amp;zcy;&amp;acy;&amp;bcy;&amp;ocy;&amp;lcy;&amp;iecy;&amp;vcy;&amp;acy;&amp;ncy;&amp;icy;&amp;jcy;."/>
          <p:cNvPicPr/>
          <p:nvPr/>
        </p:nvPicPr>
        <p:blipFill>
          <a:blip r:embed="rId5"/>
          <a:stretch/>
        </p:blipFill>
        <p:spPr>
          <a:xfrm>
            <a:off x="0" y="4005360"/>
            <a:ext cx="285768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9. &amp;Ncy;&amp;acy;&amp;rcy;&amp;kcy;&amp;ocy;&amp;tcy;&amp;icy;&amp;kcy;&amp;icy; &amp;pcy;&amp;rcy;&amp;icy;&amp;vcy;&amp;ocy;&amp;dcy;&amp;yacy;&amp;tcy; &amp;kcy; &amp;ucy;&amp;rcy;&amp;ocy;&amp;dcy;&amp;scy;&amp;tcy;&amp;vcy;&amp;acy;&amp;mcy; &amp;ucy; &amp;dcy;&amp;iecy;&amp;tcy;&amp;iecy;&amp;jcy;."/>
          <p:cNvPicPr/>
          <p:nvPr/>
        </p:nvPicPr>
        <p:blipFill>
          <a:blip r:embed="rId6"/>
          <a:stretch/>
        </p:blipFill>
        <p:spPr>
          <a:xfrm>
            <a:off x="2987640" y="4005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акокур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4fca"/>
                </a:solidFill>
                <a:latin typeface="Tahoma"/>
              </a:rPr>
              <a:t>Курение — 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акокур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100656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з чего состоит сигаре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78080" y="2384280"/>
            <a:ext cx="55818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редная привычка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то систематическая деятельность человека, приносящая вред его собственному здоровью и здоровью окружающ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из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5" descr="0022"/>
          <p:cNvPicPr/>
          <p:nvPr/>
        </p:nvPicPr>
        <p:blipFill>
          <a:blip r:embed="rId1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6920" y="2421000"/>
            <a:ext cx="4572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лкоголизм - наркотическая зависимость, характеризующаяся болезненным пристрастием к употреблению алкогольных напитков( психическая и физическая зависимость) и алкогольным поражением внутренних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коголь - это наркотическое вещество, которое вначале вызывает возбуждение, а затем угнетение нервной систе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60280"/>
            <a:ext cx="54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Действие алкоголя на орг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моз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12" descr="6bc32fd3ca788f8c2df82107"/>
          <p:cNvPicPr/>
          <p:nvPr/>
        </p:nvPicPr>
        <p:blipFill>
          <a:blip r:embed="rId1"/>
          <a:stretch/>
        </p:blipFill>
        <p:spPr>
          <a:xfrm>
            <a:off x="1763640" y="1773360"/>
            <a:ext cx="5545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8" descr="img8"/>
          <p:cNvPicPr/>
          <p:nvPr/>
        </p:nvPicPr>
        <p:blipFill>
          <a:blip r:embed="rId1"/>
          <a:stretch/>
        </p:blipFill>
        <p:spPr>
          <a:xfrm>
            <a:off x="1187280" y="189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психик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2" descr="http://cs10147.vkontakte.ru/u35517411/118096624/x_4ee5ad3a.jpg"/>
          <p:cNvPicPr/>
          <p:nvPr/>
        </p:nvPicPr>
        <p:blipFill>
          <a:blip r:embed="rId1"/>
          <a:stretch/>
        </p:blipFill>
        <p:spPr>
          <a:xfrm>
            <a:off x="2192400" y="2017800"/>
            <a:ext cx="575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печен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20" descr="Livers"/>
          <p:cNvPicPr/>
          <p:nvPr/>
        </p:nvPicPr>
        <p:blipFill>
          <a:blip r:embed="rId1"/>
          <a:stretch/>
        </p:blipFill>
        <p:spPr>
          <a:xfrm>
            <a:off x="1116000" y="2565360"/>
            <a:ext cx="6624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приводит к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ку желудка, пищевода и кишеч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сультам, инфаркт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лаблению или потери з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7:47:54Z</dcterms:created>
  <dc:creator>user</dc:creator>
  <dc:description/>
  <dc:language>en-US</dc:language>
  <cp:lastModifiedBy>user</cp:lastModifiedBy>
  <dcterms:modified xsi:type="dcterms:W3CDTF">2013-04-23T08:43:01Z</dcterms:modified>
  <cp:revision>13</cp:revision>
  <dc:subject/>
  <dc:title>Слайд 1</dc:title>
</cp:coreProperties>
</file>